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92AFD-6385-4C8E-851D-239F54826D1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1008BD-8E28-49D7-AE6D-1FD571F0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C0B308-8195-47FC-AF3D-027808C8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CA9E0A-37BB-4FF5-A399-90729085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DC5C67-CC4D-4D6D-95E2-D33DD9B89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46F71-3463-423E-99E4-AE676493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22EE4-8E4F-49B5-8A37-113767E7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D137F9-4DCA-494A-9888-E755EAFB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E356DF-A126-4797-A296-6347A05F4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751FB4-9A3A-4764-9EF3-DA3B1343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4145B-7DBF-4B09-BD31-B7CA8C18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346D-2D22-4A23-B7CB-E575AF5F2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10D6-D6B0-49C9-833F-61FA1302C6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40EE-189B-48E8-8D55-8B30D61D2A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2976-C4DF-48A5-90B3-A6DC07AD8B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6E0C-A739-413A-BCFC-9B196AFFBF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EB77-EEEA-40A3-B910-D9F0D8181B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98A6-DCAE-4EE5-9E95-A17CDAACDC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1C2C-FC4B-4116-ACA8-37676D0FC8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69E4-0C3D-4278-BC9D-AFC2BE4FE3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370B-317F-4C8D-A359-94B7F2E7E9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7D8A-0344-4E14-B22A-2179EA54A1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FB31B-DD67-47B5-AC33-9BD5583A9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2AF8-D5C5-46F3-94AF-4FB6EEB0BC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57951-BEE3-4481-98DE-7227EDDCCB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B3A9C-9C1B-4039-9790-7F32F30B48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38FCB-0CC5-45DA-877E-867418EADF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7AF4D-2FEF-4AFD-8EFF-5C7DA684CED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DC443-4DB3-4BFE-AC75-D4AAD6A53F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3F691-A181-42A6-A817-A0C4B5A1B91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985FA-5537-4D17-834A-F0F5E35880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E4842-DEA0-4C9F-9D8E-C80848CF05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05CF6-B330-43C5-8675-3430FFB964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42564-E837-4F41-83EB-EE7F4CAFA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5928-8B45-40BC-9F64-A5C8B069B3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D2A28-6D9C-4B2C-96B7-F3399377C4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EDD5D-4736-4C27-921B-B9DF888F1E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7C176-4C54-443A-8980-396EC2B934B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A352F-E2AD-4DDE-92F1-53105DD300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9A310-D68D-4701-AE2D-A038B6465D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6C71E-14A8-494A-995F-084EBFEBC4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0D425-1258-4DA9-9F53-A757C30DA5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64570-174F-4A8F-A283-17DD6E0E99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81A87-0841-421D-918D-D576CF0EC1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A544F-706D-4C0B-A77F-1B7528CA5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CF0F-31BB-49E5-8F91-A7703F0073A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5FF0F-02C0-4999-90BE-0BF26E1B1F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84B91-B9CF-4E58-A3E1-37D681BEE1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BAACB-506B-4200-9B14-0B597FCDA1E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9019-4DD9-4776-9AB2-0845DEC0E6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6D90-1949-40FF-B714-9C9BD15202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76A2-D9F8-4CB6-B229-DAC673B3EE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228C-A5D1-4571-9AAD-E03F589D8E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2E67-AFA6-429C-A17C-88C658475D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95C2-FB84-4B13-9D32-DDF25F7B411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331C-7BEB-439E-AC83-80F0E1179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6EAE-AFB8-4BDA-AC46-5BF89D88B2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DF9E-ECBA-41A9-8DFD-F901EE00F03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89CF-BA65-45F4-9CA0-0599854DBD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285C-2255-4FC9-8864-8B58F77C0D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3A0F-C2A3-4038-B3AA-0BB1F853EA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521F-9D38-4FC2-9B08-A8E0671604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B64D5-D498-4E48-8947-881F2FD06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43844-1A7D-4A32-8CCB-1F0A9F97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A960F-57C9-4D03-A4CB-C64F0608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60A24-A5FA-46C1-8C02-454F5A6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6338B-019E-42D4-8397-E924D685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60D9-6AC4-44CE-B670-835E894F89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FB787-2EF2-4FBE-901A-F6FC8F3A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70DB8-FB66-4A16-98E4-68B1EA6B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1C9BF-DB2B-4D6C-82C6-987DA56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3F435-6816-4AE8-BF3A-83416A00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CD657-7C3B-4813-820F-915CBD6A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9484C-9DAB-476F-AF4D-BF1994F2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A93B5-C88C-4EB7-91D6-EFA67D98F7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AF20-900C-4780-AD96-A1A7D8826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2FB0-2457-485D-9EF0-236F771524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6AE7-87CB-433B-97FC-8A2ADA0C6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4E3F-DDEB-4B2B-8B55-2CCEE4BD5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BB8A-D730-40AC-B90F-BF2825BD9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788C-5F98-4A4D-A850-E8EEBB731D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188E-AEC7-4F4F-961E-D663E14046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A5DB-4FDC-4AE9-9707-247552F4C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C293-FD25-4AA9-BD98-91A0A39D06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2A1A-D763-4DFB-AF09-9ED896EFE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4C1-76DA-4A40-A25C-4C8DD9A7F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20B-3C16-41E9-84E5-823FDAA685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0C0-C58F-45E7-AF57-569704EC5B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26B-81C0-4CB0-855B-C18311583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B78-6982-47A1-8F51-9DFA2AF30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D1C7-30FB-419E-B0DD-9C9B983BAF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25A-E8B6-4245-8985-EA76FBEF74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2F9-83A4-41D1-9674-497C06EAE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C52-5A3F-475A-9621-37A2FB7012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720-428C-49BE-8FCF-EB140E7B1E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C52-136B-43BD-9D14-2C3B95868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9F9-3726-47B9-A053-139D4B29E1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813-AA98-4B8F-80EB-8E3E939903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4B41-65CE-40AF-90A5-55663A95B5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3A06-5D95-47F2-A22F-AA1D1013DA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D2BC-1750-404A-B99F-FE8377515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CF26-7C51-4508-8244-066ABF485C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E74F2-3F79-459F-8373-DF0C4B56F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C368-045C-4E95-972E-800A3DB29A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80EE6-E5A2-41D3-A9A6-7828A2BB7F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0D4E-029A-48D1-84BB-80BA772379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3EB3-A70E-436B-8687-C7668F847C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9183-4659-4B04-BBAA-E4967F3A65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4D573-01AD-4E66-B08D-5FD2630946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C68D2-D72A-4D02-AFB2-A13530613E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CCA31-A880-4633-9781-C4FEDB8F75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6A4A-A8AA-4362-946D-7081F14C7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5D03-41AD-494F-8F22-3CE1296E5A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3CCA0-39C9-4672-BC9B-7970CA4E56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B3EDC-9B67-4B93-B112-15F103544C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EE68C-49B1-4AFF-A63C-B86A0D5A52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477B0-DC95-4187-8C6F-325336E5A0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8282-BAE6-4420-9555-8FB2753A1B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43BE6-CB6B-430B-B448-AF9D37AEC6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903B5-4326-4726-9112-5586CE79EA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EF91-BE10-4665-9762-A6443C5714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0BF7-D2CC-4175-84CB-3E3D661918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21510-23F7-4A1C-AE8A-860EE3672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47A2-063B-495D-AE46-F8C5369251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AA809-5E71-495E-BB81-18D8590801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68C8-035F-4FA7-B1F7-51F71EDA01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722-CAD0-4093-8EF7-1DE521DFC8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A1B-16E8-4E90-B344-0001A19BB7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9732-8C5C-438E-8E9B-EF96A7D7E1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2C32-A65D-4BCF-BBBC-25A5EC6C60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A30-210B-47E4-89E0-29666DBDB9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928-1D2A-4232-9095-B4B1DCEAEF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9CEC-37EE-4959-B74D-15BB82B00B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60B2-3532-46AC-A2CA-0B9ADE41A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F7B3-C467-4E05-B760-6B773F28E0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7E5-AFE2-4731-BDF8-9C79BB00C9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8C73-13AD-42F5-8663-4B2C40F606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D02-2D32-46EA-8C35-7435E67889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F23DE-8A6B-4305-B262-CBD411A3C1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48E71-7BFB-4843-B917-B63AEE113E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3A311-9875-413B-A6C6-F5031BDAF3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9BC00-62EB-4B1E-AA24-A25C08289F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662C6-3FF6-4B94-B63D-CBAA8C1CE1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A12A2-CC2A-48A7-99F1-25459715AE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0EF1A-1A96-4107-977F-D6DB5E59D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9DF7-430A-40B2-9A0F-08E5CA39748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3AA57-F005-45A6-B4EC-0AF58716C5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861FF-AA2E-421C-A8F4-CB989B6F61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77E11-6CC9-4E1E-81BE-8D156AED33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956DA-5CC0-4A86-B653-0DFEB75336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DA48E-BEFA-4AB6-981C-73C26A8CA9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47973-56BF-4275-AEBA-11CC00A035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AE5B9-3BA3-43E7-B909-8F87DEF3A9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A3187-EF3E-40A8-B6A1-E47F0706C5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E1CE7-02EF-4780-A30E-E81CA9E276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ECF0A-9E4B-4737-8696-966FCB54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E715-6997-4B8E-B7CF-7B1AACBDC3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6D748-7BC9-488E-B4C7-62B29FAE019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60806-7922-4423-A58F-22AFA8FD9D8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81323-C496-44D2-8A96-FFFCAD7C8C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0481B-0212-477D-B362-1D0724539D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CB45A-A260-4626-95DA-2184BE9106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B13FC-9CBF-472D-B94F-D017DAEFAA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CA41E-B9BB-4417-92CE-196E435092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3B5D-C781-48FB-A4C3-A98D159E84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7192-3C1A-4C7B-BE15-2B23A2D371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F088-A5B6-4E6E-A5CF-164EC8B4B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BA6B48-2D0B-45AF-B488-A8796811189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5F0D8-416C-43F4-BCD1-BAB149E3AF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E8EB54-83B9-441D-9BFE-2DAA35AE004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B7B2E-F75F-4572-9E6A-F3B04107820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E0315-3ED9-4A75-9C19-E09D38709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9BF87-3F16-43FF-B608-45E04BBA4E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FE83E-C4A4-471C-AAFC-54EC7552F71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2E648C-3E16-4193-8CD7-537CE8FF861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019AA5-53C3-4167-9BE1-376B5BA7B2D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3C5804-AC09-43D8-84FB-D54733783C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1DABCE-5EDB-40C3-BE0A-AB14EF9AD31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39B39-8A57-4834-9C7D-D4F9E86A3B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195FE4-02FC-4612-BAA9-E5B45DBDE50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05:57Z</dcterms:modified>
  <cp:revision>161</cp:revision>
  <dc:subject/>
  <dc:title>Παρουσίαση του PowerPoint</dc:title>
</cp:coreProperties>
</file>